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wmf" ContentType="image/x-wmf"/>
  <Override PartName="/ppt/media/image24.wmf" ContentType="image/x-wmf"/>
  <Override PartName="/ppt/media/image23.png" ContentType="image/png"/>
  <Override PartName="/ppt/media/image22.wmf" ContentType="image/x-wmf"/>
  <Override PartName="/ppt/media/image19.png" ContentType="image/png"/>
  <Override PartName="/ppt/media/image21.png" ContentType="image/png"/>
  <Override PartName="/ppt/media/image20.wmf" ContentType="image/x-wmf"/>
  <Override PartName="/ppt/media/image17.png" ContentType="image/png"/>
  <Override PartName="/ppt/media/image18.wmf" ContentType="image/x-wmf"/>
  <Override PartName="/ppt/media/image16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29.wmf" ContentType="image/x-wmf"/>
  <Override PartName="/ppt/media/image1.png" ContentType="image/png"/>
  <Override PartName="/ppt/media/image14.png" ContentType="image/png"/>
  <Override PartName="/ppt/media/image15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8BCE-4D1D-41C7-8918-5B390D6F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4DBA-8F39-4475-848E-57C189AE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8B24-396F-4A7F-90C0-BD1CAF9AD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FC1A-4AC1-4FEC-8EDB-23A518440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E22C-69FF-423D-A3E8-F3B35DFB3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3DE-D0C7-4897-B452-D574A6A2A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4F3F-7FD9-44BB-955B-FBD97D73D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71DA-40B1-4E0F-8B15-B02D38C9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A83B-ACA7-470E-8055-21A32E69F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B33C-9D5D-43D6-A441-71A1728CB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0177-6A3C-4389-8EAB-993C0CFE5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9FDC5-EB19-4EDB-9536-1BDB72D2C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CB45-9AC4-4E03-AC3C-2C05E9F87A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0" y="6594480"/>
            <a:ext cx="3124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ww.thevisualclassroom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wmf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wmf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838080" y="266688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7200" spc="-1" strike="noStrike">
                <a:solidFill>
                  <a:srgbClr val="333399"/>
                </a:solidFill>
                <a:latin typeface="Times New Roman"/>
              </a:rPr>
              <a:t>Short and Snappy</a:t>
            </a:r>
            <a:br>
              <a:rPr sz="7200"/>
            </a:br>
            <a:r>
              <a:rPr b="0" i="1" lang="en-US" sz="7200" spc="-1" strike="noStrike">
                <a:solidFill>
                  <a:srgbClr val="ff0000"/>
                </a:solidFill>
                <a:latin typeface="Times New Roman"/>
              </a:rPr>
              <a:t>Parabolas </a:t>
            </a:r>
            <a:r>
              <a:rPr b="0" lang="en-US" sz="72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1111320"/>
            <a:ext cx="6324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imes New Roman"/>
              </a:rPr>
              <a:t>Time to play …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057400" y="2514600"/>
            <a:ext cx="190512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rcRect l="9436" t="0" r="9058" b="0"/>
          <a:stretch/>
        </p:blipFill>
        <p:spPr>
          <a:xfrm>
            <a:off x="4724280" y="1676520"/>
            <a:ext cx="411480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3429000"/>
            <a:ext cx="236232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rcRect l="18301" t="0" r="16796" b="10683"/>
          <a:stretch/>
        </p:blipFill>
        <p:spPr>
          <a:xfrm>
            <a:off x="5029200" y="1824120"/>
            <a:ext cx="327672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43000" y="3648240"/>
            <a:ext cx="327672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18116" t="0" r="0" b="12291"/>
          <a:stretch/>
        </p:blipFill>
        <p:spPr>
          <a:xfrm>
            <a:off x="4705200" y="1752480"/>
            <a:ext cx="4133880" cy="4419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19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rcRect l="0" t="0" r="13772" b="10683"/>
          <a:stretch/>
        </p:blipFill>
        <p:spPr>
          <a:xfrm>
            <a:off x="4648320" y="1824120"/>
            <a:ext cx="435276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1" name=""/>
          <p:cNvSpPr/>
          <p:nvPr/>
        </p:nvSpPr>
        <p:spPr>
          <a:xfrm>
            <a:off x="1143000" y="3352680"/>
            <a:ext cx="327672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2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rcRect l="13772" t="7560" r="0" b="0"/>
          <a:stretch/>
        </p:blipFill>
        <p:spPr>
          <a:xfrm>
            <a:off x="4638600" y="1752480"/>
            <a:ext cx="435312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5" name=""/>
          <p:cNvSpPr/>
          <p:nvPr/>
        </p:nvSpPr>
        <p:spPr>
          <a:xfrm>
            <a:off x="762120" y="364824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2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990720" y="2666880"/>
            <a:ext cx="31240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16796" t="0" r="0" b="0"/>
          <a:stretch/>
        </p:blipFill>
        <p:spPr>
          <a:xfrm>
            <a:off x="4638600" y="1666800"/>
            <a:ext cx="4200480" cy="503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3038400"/>
            <a:ext cx="327636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4529" t="0" r="13772" b="0"/>
          <a:stretch/>
        </p:blipFill>
        <p:spPr>
          <a:xfrm>
            <a:off x="4714920" y="1666800"/>
            <a:ext cx="4124160" cy="503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809800"/>
            <a:ext cx="38862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15092" t="0" r="0" b="7560"/>
          <a:stretch/>
        </p:blipFill>
        <p:spPr>
          <a:xfrm>
            <a:off x="4552920" y="1590840"/>
            <a:ext cx="428616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10755" t="0" r="10755" b="13799"/>
          <a:stretch/>
        </p:blipFill>
        <p:spPr>
          <a:xfrm>
            <a:off x="4800600" y="1828800"/>
            <a:ext cx="39625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1" name=""/>
          <p:cNvGraphicFramePr/>
          <p:nvPr/>
        </p:nvGraphicFramePr>
        <p:xfrm>
          <a:off x="1676520" y="2286000"/>
          <a:ext cx="236196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6520" y="2286000"/>
                    <a:ext cx="236196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22830" t="0" r="0" b="13799"/>
          <a:stretch/>
        </p:blipFill>
        <p:spPr>
          <a:xfrm>
            <a:off x="4724280" y="1752480"/>
            <a:ext cx="3895920" cy="4343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16" name=""/>
          <p:cNvGraphicFramePr/>
          <p:nvPr/>
        </p:nvGraphicFramePr>
        <p:xfrm>
          <a:off x="685800" y="2666880"/>
          <a:ext cx="376704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2666880"/>
                    <a:ext cx="376704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371600" y="2324160"/>
            <a:ext cx="2438280" cy="76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rcRect l="13772" t="0" r="15284" b="9168"/>
          <a:stretch/>
        </p:blipFill>
        <p:spPr>
          <a:xfrm>
            <a:off x="4648320" y="1676520"/>
            <a:ext cx="3581280" cy="457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rcRect l="0" t="0" r="18494" b="16636"/>
          <a:stretch/>
        </p:blipFill>
        <p:spPr>
          <a:xfrm>
            <a:off x="4648320" y="1819440"/>
            <a:ext cx="4114800" cy="4200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1" name=""/>
          <p:cNvGraphicFramePr/>
          <p:nvPr/>
        </p:nvGraphicFramePr>
        <p:xfrm>
          <a:off x="714240" y="2514600"/>
          <a:ext cx="371016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14240" y="2514600"/>
                    <a:ext cx="371016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9243" t="0" r="9243" b="7653"/>
          <a:stretch/>
        </p:blipFill>
        <p:spPr>
          <a:xfrm>
            <a:off x="4648320" y="1600200"/>
            <a:ext cx="4114800" cy="4653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26" name=""/>
          <p:cNvGraphicFramePr/>
          <p:nvPr/>
        </p:nvGraphicFramePr>
        <p:xfrm>
          <a:off x="1046160" y="2438280"/>
          <a:ext cx="337356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6160" y="2438280"/>
                    <a:ext cx="337356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9058" t="7753" r="9436" b="0"/>
          <a:stretch/>
        </p:blipFill>
        <p:spPr>
          <a:xfrm>
            <a:off x="4724280" y="1600200"/>
            <a:ext cx="41148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31" name=""/>
          <p:cNvGraphicFramePr/>
          <p:nvPr/>
        </p:nvGraphicFramePr>
        <p:xfrm>
          <a:off x="1219320" y="2286000"/>
          <a:ext cx="281124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19320" y="2286000"/>
                    <a:ext cx="281124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4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19813" t="9075" r="0" b="0"/>
          <a:stretch/>
        </p:blipFill>
        <p:spPr>
          <a:xfrm>
            <a:off x="4724280" y="1600200"/>
            <a:ext cx="4048200" cy="45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136" name=""/>
          <p:cNvGraphicFramePr/>
          <p:nvPr/>
        </p:nvGraphicFramePr>
        <p:xfrm>
          <a:off x="411120" y="2514600"/>
          <a:ext cx="4160880" cy="174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120" y="2514600"/>
                    <a:ext cx="416088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749160" y="2523960"/>
          <a:ext cx="3822840" cy="174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9160" y="2523960"/>
                    <a:ext cx="3822840" cy="1743120"/>
                  </a:xfrm>
                  <a:prstGeom prst="rect">
                    <a:avLst/>
                  </a:prstGeom>
                  <a:ln w="9360">
                    <a:solidFill>
                      <a:srgbClr val="333399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42" name="" descr=""/>
          <p:cNvPicPr/>
          <p:nvPr/>
        </p:nvPicPr>
        <p:blipFill>
          <a:blip r:embed="rId3"/>
          <a:srcRect l="16604" t="0" r="15477" b="0"/>
          <a:stretch/>
        </p:blipFill>
        <p:spPr>
          <a:xfrm>
            <a:off x="5181480" y="1600200"/>
            <a:ext cx="342900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16796" t="0" r="15284" b="15121"/>
          <a:stretch/>
        </p:blipFill>
        <p:spPr>
          <a:xfrm>
            <a:off x="4724280" y="1819440"/>
            <a:ext cx="3429000" cy="4276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1371600" y="3124080"/>
            <a:ext cx="22860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124080"/>
            <a:ext cx="29718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18301" t="0" r="0" b="13613"/>
          <a:stretch/>
        </p:blipFill>
        <p:spPr>
          <a:xfrm>
            <a:off x="4724280" y="1819440"/>
            <a:ext cx="4124520" cy="4352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3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3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rcRect l="0" t="0" r="15284" b="12291"/>
          <a:stretch/>
        </p:blipFill>
        <p:spPr>
          <a:xfrm>
            <a:off x="4486320" y="1676520"/>
            <a:ext cx="427680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4" name=""/>
          <p:cNvSpPr/>
          <p:nvPr/>
        </p:nvSpPr>
        <p:spPr>
          <a:xfrm>
            <a:off x="1371600" y="2809800"/>
            <a:ext cx="29718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6045" r="13772" b="0"/>
          <a:stretch/>
        </p:blipFill>
        <p:spPr>
          <a:xfrm>
            <a:off x="4343400" y="1828800"/>
            <a:ext cx="4352760" cy="47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1114560" y="2971800"/>
            <a:ext cx="32004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9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16796" t="0" r="0" b="0"/>
          <a:stretch/>
        </p:blipFill>
        <p:spPr>
          <a:xfrm>
            <a:off x="4495680" y="1600200"/>
            <a:ext cx="42004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2" name=""/>
          <p:cNvSpPr/>
          <p:nvPr/>
        </p:nvSpPr>
        <p:spPr>
          <a:xfrm>
            <a:off x="1219320" y="3276720"/>
            <a:ext cx="32004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6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13587" b="0"/>
          <a:stretch/>
        </p:blipFill>
        <p:spPr>
          <a:xfrm>
            <a:off x="4248000" y="1590840"/>
            <a:ext cx="436248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9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38080" y="2171880"/>
            <a:ext cx="3200400" cy="764280"/>
          </a:xfrm>
          <a:prstGeom prst="rect">
            <a:avLst/>
          </a:prstGeom>
          <a:solidFill>
            <a:srgbClr val="ffff99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4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15284" t="0" r="0" b="12291"/>
          <a:stretch/>
        </p:blipFill>
        <p:spPr>
          <a:xfrm>
            <a:off x="4638600" y="1905120"/>
            <a:ext cx="4276800" cy="4419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6" name=""/>
          <p:cNvSpPr/>
          <p:nvPr/>
        </p:nvSpPr>
        <p:spPr>
          <a:xfrm>
            <a:off x="685800" y="3124080"/>
            <a:ext cx="38098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3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15284" b="12191"/>
          <a:stretch/>
        </p:blipFill>
        <p:spPr>
          <a:xfrm>
            <a:off x="4648320" y="1747800"/>
            <a:ext cx="4276440" cy="4424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0" name=""/>
          <p:cNvSpPr/>
          <p:nvPr/>
        </p:nvSpPr>
        <p:spPr>
          <a:xfrm>
            <a:off x="685800" y="3124080"/>
            <a:ext cx="380988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0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13772" b="10683"/>
          <a:stretch/>
        </p:blipFill>
        <p:spPr>
          <a:xfrm>
            <a:off x="4486320" y="1824120"/>
            <a:ext cx="4352760" cy="45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4" name=""/>
          <p:cNvSpPr/>
          <p:nvPr/>
        </p:nvSpPr>
        <p:spPr>
          <a:xfrm>
            <a:off x="685800" y="312408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8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18301" t="6045" r="0" b="0"/>
          <a:stretch/>
        </p:blipFill>
        <p:spPr>
          <a:xfrm>
            <a:off x="4791240" y="1828800"/>
            <a:ext cx="4124160" cy="473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990720" y="341964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2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94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13587" t="0" r="12453" b="10776"/>
          <a:stretch/>
        </p:blipFill>
        <p:spPr>
          <a:xfrm>
            <a:off x="4648320" y="1905120"/>
            <a:ext cx="3733560" cy="4495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82" name=""/>
          <p:cNvSpPr/>
          <p:nvPr/>
        </p:nvSpPr>
        <p:spPr>
          <a:xfrm>
            <a:off x="1219320" y="3191040"/>
            <a:ext cx="29718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–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301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13587" t="0" r="0" b="0"/>
          <a:stretch/>
        </p:blipFill>
        <p:spPr>
          <a:xfrm>
            <a:off x="4419720" y="1523880"/>
            <a:ext cx="4362480" cy="5038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3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2133720"/>
            <a:ext cx="327672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447920" y="2133720"/>
            <a:ext cx="259056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12267" t="0" r="10755" b="16829"/>
          <a:stretch/>
        </p:blipFill>
        <p:spPr>
          <a:xfrm>
            <a:off x="4648320" y="1828800"/>
            <a:ext cx="3886200" cy="4191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8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2347920"/>
            <a:ext cx="2819160" cy="825120"/>
          </a:xfrm>
          <a:prstGeom prst="rect">
            <a:avLst/>
          </a:prstGeom>
          <a:solidFill>
            <a:srgbClr val="ffff99"/>
          </a:solidFill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4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10570" t="0" r="12453" b="7753"/>
          <a:stretch/>
        </p:blipFill>
        <p:spPr>
          <a:xfrm>
            <a:off x="4800600" y="1752480"/>
            <a:ext cx="3886200" cy="464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rcRect l="0" t="0" r="16982" b="9261"/>
          <a:stretch/>
        </p:blipFill>
        <p:spPr>
          <a:xfrm>
            <a:off x="4495680" y="1828800"/>
            <a:ext cx="4191120" cy="4572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7" name=""/>
          <p:cNvSpPr/>
          <p:nvPr/>
        </p:nvSpPr>
        <p:spPr>
          <a:xfrm>
            <a:off x="533520" y="258120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+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8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rcRect l="12453" t="0" r="0" b="0"/>
          <a:stretch/>
        </p:blipFill>
        <p:spPr>
          <a:xfrm>
            <a:off x="4419720" y="1590840"/>
            <a:ext cx="4419360" cy="5038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609480" y="258120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– 3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8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8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609480" y="22716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graph of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is shown in </a:t>
            </a:r>
            <a:r>
              <a:rPr b="0" lang="en-US" sz="3600" spc="-1" strike="noStrike">
                <a:solidFill>
                  <a:srgbClr val="333399"/>
                </a:solidFill>
                <a:latin typeface="Times New Roman"/>
              </a:rPr>
              <a:t>blue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09480" y="882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Determine an equation for the graph in </a:t>
            </a: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red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2438280"/>
            <a:ext cx="3657600" cy="764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= (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+ 5)</a:t>
            </a:r>
            <a:r>
              <a:rPr b="0" lang="en-US" sz="44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–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rcRect l="0" t="0" r="15284" b="7560"/>
          <a:stretch/>
        </p:blipFill>
        <p:spPr>
          <a:xfrm>
            <a:off x="4495680" y="1743120"/>
            <a:ext cx="4276800" cy="4657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dissolve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8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8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56:56Z</dcterms:created>
  <dc:creator>Peter Maher</dc:creator>
  <dc:description/>
  <dc:language>en-US</dc:language>
  <cp:lastModifiedBy> </cp:lastModifiedBy>
  <dcterms:modified xsi:type="dcterms:W3CDTF">2005-06-07T11:51:29Z</dcterms:modified>
  <cp:revision>20</cp:revision>
  <dc:subject/>
  <dc:title>Slide 1</dc:title>
</cp:coreProperties>
</file>